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2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1.wmf" ContentType="image/x-wmf"/>
  <Override PartName="/ppt/media/image38.wmf" ContentType="image/x-wmf"/>
  <Override PartName="/ppt/media/image22.wmf" ContentType="image/x-wmf"/>
  <Override PartName="/ppt/media/image59.wmf" ContentType="image/x-wmf"/>
  <Override PartName="/ppt/media/image72.wmf" ContentType="image/x-wmf"/>
  <Override PartName="/ppt/media/image2.png" ContentType="image/png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65.wmf" ContentType="image/x-wmf"/>
  <Override PartName="/ppt/media/image29.wmf" ContentType="image/x-wmf"/>
  <Override PartName="/ppt/media/image1.png" ContentType="image/png"/>
  <Override PartName="/ppt/media/image71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6.png" ContentType="image/png"/>
  <Override PartName="/ppt/media/image40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0.wmf" ContentType="image/x-wmf"/>
  <Override PartName="/ppt/media/image6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8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419-FC4F-4791-A6D8-6790A998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E2D-F54C-47D2-B93A-B13A3B37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DA8-716A-440F-83C3-88BBD6A2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39B-B5E3-4596-9DB2-1466BE5C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2C3-FA52-4918-8EA6-C507E52D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1DD-F5F9-4FC2-965A-5C1BC2DC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839-A9E9-4988-81FD-2AA8F809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2B6-79C1-4922-A9F4-AE607FC1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773-7518-4780-A25E-57783885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8D0-955F-4CF7-BD7D-C09BA1A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3D4-B75E-4256-A57A-86E95480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FB7-E791-464E-BF1F-06BE126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215B-7573-44DA-843B-B06913578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3.wmf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56.wmf"/><Relationship Id="rId21" Type="http://schemas.openxmlformats.org/officeDocument/2006/relationships/image" Target="../media/image57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1.wmf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2.wm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3.wmf"/><Relationship Id="rId7" Type="http://schemas.openxmlformats.org/officeDocument/2006/relationships/image" Target="../media/image64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8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6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76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77.wmf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8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88.wmf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7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8.pn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37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38.wmf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6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7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8.wm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9680"/>
            <a:ext cx="7772400" cy="101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gher M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40720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6120" y="6019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0516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5330880" y="836640"/>
          <a:ext cx="318780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0880" y="836640"/>
                    <a:ext cx="31878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92120" y="844560"/>
            <a:ext cx="481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what range of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does the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resent a circle ?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7320" y="1709640"/>
            <a:ext cx="2300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g, f and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336840" y="1701720"/>
          <a:ext cx="336708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36840" y="1701720"/>
                    <a:ext cx="33670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98040" y="2290680"/>
            <a:ext cx="1689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521080" y="2254320"/>
          <a:ext cx="168408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1080" y="2254320"/>
                    <a:ext cx="1684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411080" y="2246400"/>
            <a:ext cx="148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in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056280" y="2209680"/>
          <a:ext cx="284472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56280" y="2209680"/>
                    <a:ext cx="28447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697680" y="2871720"/>
            <a:ext cx="979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023920" y="2886120"/>
          <a:ext cx="1638360" cy="357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23920" y="2886120"/>
                    <a:ext cx="16383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98760" y="3400560"/>
            <a:ext cx="2297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5"/>
          <a:stretch/>
        </p:blipFill>
        <p:spPr>
          <a:xfrm>
            <a:off x="6715080" y="597384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30080" y="3789360"/>
          <a:ext cx="2225880" cy="1876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0080" y="3789360"/>
                    <a:ext cx="222588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386160" y="536724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 equation is a circle for all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2857680"/>
            <a:ext cx="2279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ed to see th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f the parab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8"/>
          <a:stretch/>
        </p:blipFill>
        <p:spPr>
          <a:xfrm>
            <a:off x="6964200" y="2757600"/>
            <a:ext cx="1686240" cy="1127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368520" y="3889440"/>
            <a:ext cx="16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inimum valu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016600" y="3828960"/>
          <a:ext cx="1595160" cy="509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16600" y="3828960"/>
                    <a:ext cx="15951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354480" y="44607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s is positive, so graph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354480" y="4319640"/>
            <a:ext cx="4216320" cy="1028520"/>
            <a:chOff x="3354480" y="4319640"/>
            <a:chExt cx="4216320" cy="1028520"/>
          </a:xfrm>
        </p:grpSpPr>
        <p:sp>
          <p:nvSpPr>
            <p:cNvPr id="344" name=""/>
            <p:cNvSpPr/>
            <p:nvPr/>
          </p:nvSpPr>
          <p:spPr>
            <a:xfrm>
              <a:off x="3354480" y="4886280"/>
              <a:ext cx="29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Expression is positive for al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21"/>
            <a:stretch/>
          </p:blipFill>
          <p:spPr>
            <a:xfrm>
              <a:off x="6783480" y="4319640"/>
              <a:ext cx="787320" cy="102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657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318280" y="879480"/>
          <a:ext cx="261144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18280" y="879480"/>
                    <a:ext cx="26114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92120" y="887400"/>
            <a:ext cx="481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what range of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does the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resent a circle ?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7320" y="2166840"/>
            <a:ext cx="2300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g, f and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711600" y="2158920"/>
          <a:ext cx="261612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11600" y="2158920"/>
                    <a:ext cx="2616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98040" y="2890800"/>
            <a:ext cx="1689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521080" y="2854440"/>
          <a:ext cx="168408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1080" y="2854440"/>
                    <a:ext cx="1684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411080" y="2846520"/>
            <a:ext cx="148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in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523200" y="2809800"/>
          <a:ext cx="191124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23200" y="2809800"/>
                    <a:ext cx="19112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697680" y="3614760"/>
            <a:ext cx="979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32240" y="3651120"/>
          <a:ext cx="1365120" cy="31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32240" y="3651120"/>
                    <a:ext cx="136512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95160" y="4371840"/>
            <a:ext cx="1540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arrange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5"/>
          <a:stretch/>
        </p:blipFill>
        <p:spPr>
          <a:xfrm>
            <a:off x="3957480" y="4272120"/>
            <a:ext cx="61920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2746440" y="4383000"/>
          <a:ext cx="704880" cy="312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46440" y="4383000"/>
                    <a:ext cx="704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57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" y="887400"/>
            <a:ext cx="48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ircle shown has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the equation of the tangent at the point (6, 2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71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3462480" y="925560"/>
          <a:ext cx="232560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2480" y="925560"/>
                    <a:ext cx="2325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6431040" y="768240"/>
            <a:ext cx="2200320" cy="2149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62320" y="2274840"/>
            <a:ext cx="274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4851360" y="42465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47920" y="2979720"/>
            <a:ext cx="4187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radius (to tang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616200" y="2247840"/>
          <a:ext cx="1003320" cy="4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16200" y="2247840"/>
                    <a:ext cx="1003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54040" y="371016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254560" y="2762280"/>
          <a:ext cx="800280" cy="76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4560" y="27622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3048120" y="3487680"/>
          <a:ext cx="1023840" cy="76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3487680"/>
                    <a:ext cx="10238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54040" y="4424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033720" y="4416480"/>
          <a:ext cx="1573200" cy="39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33720" y="4416480"/>
                    <a:ext cx="15732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221520" y="690480"/>
            <a:ext cx="2415960" cy="187812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434880" y="716040"/>
            <a:ext cx="6226200" cy="1854360"/>
            <a:chOff x="434880" y="716040"/>
            <a:chExt cx="6226200" cy="1854360"/>
          </a:xfrm>
        </p:grpSpPr>
        <p:sp>
          <p:nvSpPr>
            <p:cNvPr id="422" name=""/>
            <p:cNvSpPr/>
            <p:nvPr/>
          </p:nvSpPr>
          <p:spPr>
            <a:xfrm>
              <a:off x="434880" y="716040"/>
              <a:ext cx="6226200" cy="18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When newspapers were printed by lithograph, the newsprint h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o run over three rollers, illustrated in the diagram by 3 circle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centres A, B and C of the three circles are colline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equations of the circumferences of the outer circles 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equation of the central circle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3" name=""/>
            <p:cNvGraphicFramePr/>
            <p:nvPr/>
          </p:nvGraphicFramePr>
          <p:xfrm>
            <a:off x="781200" y="1893600"/>
            <a:ext cx="4962240" cy="33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1200" y="1893600"/>
                      <a:ext cx="496224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5" name=""/>
          <p:cNvSpPr/>
          <p:nvPr/>
        </p:nvSpPr>
        <p:spPr>
          <a:xfrm>
            <a:off x="568080" y="2692440"/>
            <a:ext cx="2952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and radius of Circ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897360" y="2652840"/>
          <a:ext cx="266364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2652840"/>
                    <a:ext cx="266364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567720" y="3235320"/>
            <a:ext cx="2963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and radius of Circl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025880" y="3195720"/>
          <a:ext cx="2405160" cy="40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25880" y="3195720"/>
                    <a:ext cx="2405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68080" y="3759120"/>
            <a:ext cx="3140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stance AB (distance formu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181400" y="3668760"/>
          <a:ext cx="2094120" cy="51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1400" y="3668760"/>
                    <a:ext cx="20941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565920" y="4300560"/>
            <a:ext cx="2193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ameter of circ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44880" y="4289400"/>
          <a:ext cx="4368600" cy="40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4880" y="4289400"/>
                    <a:ext cx="43686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567000" y="4830840"/>
            <a:ext cx="214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roportion to fi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973240" y="4705200"/>
          <a:ext cx="4680000" cy="64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3240" y="4705200"/>
                    <a:ext cx="468000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563400" y="5415120"/>
            <a:ext cx="1125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entre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866960" y="5408640"/>
          <a:ext cx="982440" cy="409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66960" y="5408640"/>
                    <a:ext cx="9824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3270600" y="5415120"/>
            <a:ext cx="1301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762440" y="5303880"/>
          <a:ext cx="3051360" cy="56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62440" y="5303880"/>
                    <a:ext cx="3051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6" name="" descr=""/>
          <p:cNvPicPr/>
          <p:nvPr/>
        </p:nvPicPr>
        <p:blipFill>
          <a:blip r:embed="rId21"/>
          <a:stretch/>
        </p:blipFill>
        <p:spPr>
          <a:xfrm>
            <a:off x="6315120" y="5851440"/>
            <a:ext cx="619200" cy="61920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6971760" y="2521080"/>
            <a:ext cx="1836720" cy="1594080"/>
            <a:chOff x="6971760" y="2521080"/>
            <a:chExt cx="1836720" cy="1594080"/>
          </a:xfrm>
        </p:grpSpPr>
        <p:sp>
          <p:nvSpPr>
            <p:cNvPr id="448" name=""/>
            <p:cNvSpPr/>
            <p:nvPr/>
          </p:nvSpPr>
          <p:spPr>
            <a:xfrm flipH="1">
              <a:off x="7272360" y="2741760"/>
              <a:ext cx="1154160" cy="1153800"/>
            </a:xfrm>
            <a:prstGeom prst="rtTriangle">
              <a:avLst/>
            </a:prstGeom>
            <a:noFill/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040" y="252108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(24, 1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71760" y="3914640"/>
              <a:ext cx="51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(-12, -1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00680" y="31924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75360" y="39322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900560" y="28558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11920" y="3357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70280" y="339084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46760" y="32036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8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rc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9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9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549360" cy="53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86720" y="321624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2360" y="997200"/>
            <a:ext cx="49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circle with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–3, 4) and passing through the orig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4200" y="2732040"/>
            <a:ext cx="3262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radius (distance formul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54560" y="2751120"/>
          <a:ext cx="689040" cy="3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4560" y="2751120"/>
                    <a:ext cx="689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8320" y="3413160"/>
            <a:ext cx="232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know the cent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649680" y="3378240"/>
          <a:ext cx="99360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49680" y="3378240"/>
                    <a:ext cx="9936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6615000" y="4033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6278400" y="792000"/>
            <a:ext cx="2098800" cy="2075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7600" y="4179960"/>
            <a:ext cx="2323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97240" y="4151160"/>
          <a:ext cx="2801880" cy="45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97240" y="4151160"/>
                    <a:ext cx="28018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2360" y="997200"/>
            <a:ext cx="79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why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 a circ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040" y="2246400"/>
            <a:ext cx="275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2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70068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5360" y="3308400"/>
            <a:ext cx="195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 and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99200" y="2619360"/>
          <a:ext cx="1870200" cy="347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99200" y="2619360"/>
                    <a:ext cx="18702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687840" y="979560"/>
          <a:ext cx="3303360" cy="50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87840" y="979560"/>
                    <a:ext cx="3303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446280" y="223524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Coefficients of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the s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941560" y="3132000"/>
          <a:ext cx="1933560" cy="69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41560" y="3132000"/>
                    <a:ext cx="19335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541680" y="3849840"/>
          <a:ext cx="416412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41680" y="3849840"/>
                    <a:ext cx="4164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465360" y="2643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Radius must be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81040" y="3968640"/>
            <a:ext cx="2638440" cy="393840"/>
            <a:chOff x="581040" y="3968640"/>
            <a:chExt cx="2638440" cy="393840"/>
          </a:xfrm>
        </p:grpSpPr>
        <p:sp>
          <p:nvSpPr>
            <p:cNvPr id="106" name=""/>
            <p:cNvSpPr/>
            <p:nvPr/>
          </p:nvSpPr>
          <p:spPr>
            <a:xfrm>
              <a:off x="581040" y="3994200"/>
              <a:ext cx="26384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1847880" y="3968640"/>
            <a:ext cx="1195200" cy="378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47880" y="3968640"/>
                      <a:ext cx="119520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598320" y="4684680"/>
            <a:ext cx="127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68640" y="4649760"/>
          <a:ext cx="4213080" cy="425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68640" y="4649760"/>
                    <a:ext cx="42130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438720" y="5119560"/>
            <a:ext cx="30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tion does not represent a cir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2680" y="3117960"/>
            <a:ext cx="322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mid-point for cent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404040" y="462132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6480" y="3865680"/>
            <a:ext cx="2285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radius CQ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206960" y="3105000"/>
          <a:ext cx="706320" cy="39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06960" y="3105000"/>
                    <a:ext cx="7063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595680" y="4673520"/>
          <a:ext cx="2550960" cy="50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95680" y="4673520"/>
                    <a:ext cx="25509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54040" y="4767120"/>
            <a:ext cx="2638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equ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8280" y="928800"/>
            <a:ext cx="71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circle which has P(–2, –1) and Q(4,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end points of a diame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468600" y="3807000"/>
          <a:ext cx="1025640" cy="444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68600" y="3807000"/>
                    <a:ext cx="1025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7880" y="23209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70600" y="1741320"/>
            <a:ext cx="2719440" cy="1552680"/>
            <a:chOff x="5970600" y="1741320"/>
            <a:chExt cx="2719440" cy="1552680"/>
          </a:xfrm>
        </p:grpSpPr>
        <p:sp>
          <p:nvSpPr>
            <p:cNvPr id="138" name=""/>
            <p:cNvSpPr/>
            <p:nvPr/>
          </p:nvSpPr>
          <p:spPr>
            <a:xfrm flipV="1">
              <a:off x="6634080" y="2177640"/>
              <a:ext cx="13654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46960" y="1741320"/>
              <a:ext cx="1552320" cy="1552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70600" y="2805120"/>
              <a:ext cx="59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-2, -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02520" y="202248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(4, 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56360" y="2281320"/>
              <a:ext cx="32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72360" y="2467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2320" y="2274840"/>
            <a:ext cx="274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85136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47200" y="3451320"/>
            <a:ext cx="4582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OP (radius to tang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641760" y="2247840"/>
          <a:ext cx="95076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1760" y="2247840"/>
                    <a:ext cx="9507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54040" y="4181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9360" y="928800"/>
            <a:ext cx="72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tangent at the point (3, 4) on the cir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54560" y="3233880"/>
          <a:ext cx="800280" cy="76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4560" y="32338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903400" y="1442880"/>
          <a:ext cx="3449880" cy="50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03400" y="1442880"/>
                    <a:ext cx="34498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097080" y="4168800"/>
          <a:ext cx="924120" cy="344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97080" y="4168800"/>
                    <a:ext cx="9241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54040" y="48960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121200" y="4888080"/>
          <a:ext cx="1398240" cy="393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1200" y="4888080"/>
                    <a:ext cx="13982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59440" y="28447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59560" y="1973160"/>
            <a:ext cx="1681200" cy="1800360"/>
            <a:chOff x="6559560" y="1973160"/>
            <a:chExt cx="1681200" cy="1800360"/>
          </a:xfrm>
        </p:grpSpPr>
        <p:grpSp>
          <p:nvGrpSpPr>
            <p:cNvPr id="174" name=""/>
            <p:cNvGrpSpPr/>
            <p:nvPr/>
          </p:nvGrpSpPr>
          <p:grpSpPr>
            <a:xfrm>
              <a:off x="6559560" y="1973160"/>
              <a:ext cx="1655640" cy="1800360"/>
              <a:chOff x="6559560" y="1973160"/>
              <a:chExt cx="1655640" cy="1800360"/>
            </a:xfrm>
          </p:grpSpPr>
          <p:sp>
            <p:nvSpPr>
              <p:cNvPr id="175" name=""/>
              <p:cNvSpPr/>
              <p:nvPr/>
            </p:nvSpPr>
            <p:spPr>
              <a:xfrm>
                <a:off x="6559560" y="2249640"/>
                <a:ext cx="152388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40600" y="1973160"/>
                <a:ext cx="1074600" cy="72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300800" y="2365200"/>
                <a:ext cx="44928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045200" y="3051000"/>
              <a:ext cx="59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(-1, 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215280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3, 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61240" y="2274840"/>
            <a:ext cx="223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85136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7920" y="3451320"/>
            <a:ext cx="403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radius to tan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76560" y="2233440"/>
          <a:ext cx="8971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76560" y="2233440"/>
                    <a:ext cx="8971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54040" y="4181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0200" y="888840"/>
            <a:ext cx="819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 P(2, 3) lies on the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tangent at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75200" y="3233880"/>
          <a:ext cx="800280" cy="76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75200" y="32338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048120" y="3960720"/>
          <a:ext cx="1023840" cy="76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3960720"/>
                    <a:ext cx="1023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54040" y="48960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6320" y="4888080"/>
          <a:ext cx="1548000" cy="39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46320" y="4888080"/>
                    <a:ext cx="15480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559440" y="28447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25920" y="960480"/>
          <a:ext cx="2274840" cy="390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25920" y="960480"/>
                    <a:ext cx="22748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559560" y="1973160"/>
            <a:ext cx="1681200" cy="1800360"/>
            <a:chOff x="6559560" y="1973160"/>
            <a:chExt cx="1681200" cy="1800360"/>
          </a:xfrm>
        </p:grpSpPr>
        <p:grpSp>
          <p:nvGrpSpPr>
            <p:cNvPr id="210" name=""/>
            <p:cNvGrpSpPr/>
            <p:nvPr/>
          </p:nvGrpSpPr>
          <p:grpSpPr>
            <a:xfrm>
              <a:off x="6559560" y="1973160"/>
              <a:ext cx="1655640" cy="1800360"/>
              <a:chOff x="6559560" y="1973160"/>
              <a:chExt cx="1655640" cy="1800360"/>
            </a:xfrm>
          </p:grpSpPr>
          <p:sp>
            <p:nvSpPr>
              <p:cNvPr id="211" name=""/>
              <p:cNvSpPr/>
              <p:nvPr/>
            </p:nvSpPr>
            <p:spPr>
              <a:xfrm>
                <a:off x="6559560" y="2249640"/>
                <a:ext cx="152388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40600" y="1973160"/>
                <a:ext cx="1074600" cy="72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300800" y="2365200"/>
                <a:ext cx="44928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045200" y="3051000"/>
              <a:ext cx="59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(-1,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69160" y="215280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2, 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580000" y="826920"/>
            <a:ext cx="3205080" cy="1955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7094520" y="52563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8200" y="3513240"/>
            <a:ext cx="2347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is centre of small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440" y="692280"/>
            <a:ext cx="604368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, A and B are the centres of the three circles shown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diagram. The two outer circles are congruent,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uches the smallest circle. Circle centre A has eq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three centres lie on a parabola whose axis of 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s shown the by broken line through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 i)   State coordinates of A and find length of line O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i)   Hence find the equation of the circle with centre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 The equation of the parabola can be written in the form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006640" y="1558800"/>
          <a:ext cx="2031840" cy="37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6640" y="1558800"/>
                    <a:ext cx="2031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764320" y="2986200"/>
          <a:ext cx="1468440" cy="34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64320" y="2986200"/>
                    <a:ext cx="14684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036960" y="3519360"/>
          <a:ext cx="115704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36960" y="3519360"/>
                    <a:ext cx="1157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478400" y="3473280"/>
            <a:ext cx="2467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OA (Distance formu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229520" y="3489480"/>
          <a:ext cx="311040" cy="30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29520" y="3489480"/>
                    <a:ext cx="311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484520" y="3970440"/>
            <a:ext cx="2859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ind radius of circle A from eq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120" y="4000680"/>
            <a:ext cx="2119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symmetry, fi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82880" y="4006800"/>
          <a:ext cx="979560" cy="35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82880" y="4006800"/>
                    <a:ext cx="9795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7518240" y="3976560"/>
          <a:ext cx="201600" cy="30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18240" y="3976560"/>
                    <a:ext cx="2016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546120" y="4484520"/>
            <a:ext cx="2092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radius of circ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930400" y="4498920"/>
          <a:ext cx="1046160" cy="30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30400" y="4498920"/>
                    <a:ext cx="10461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388280" y="2997360"/>
            <a:ext cx="147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86320" y="4500720"/>
            <a:ext cx="1003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qn.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634000" y="4470480"/>
          <a:ext cx="2048040" cy="393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34000" y="4470480"/>
                    <a:ext cx="2048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60520" y="4976640"/>
            <a:ext cx="24555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oints O, A, B lie on parabola – subst. A and B in 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162240" y="4983120"/>
          <a:ext cx="1432080" cy="577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62240" y="4983120"/>
                    <a:ext cx="1432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4729320" y="5079960"/>
            <a:ext cx="747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576760" y="5041800"/>
          <a:ext cx="1540080" cy="459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76760" y="5041800"/>
                    <a:ext cx="15400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50720" y="3005280"/>
            <a:ext cx="2040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of circle 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7068960" y="5164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73040" y="4019400"/>
            <a:ext cx="3187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of radius of Q to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630520" y="3016080"/>
          <a:ext cx="704880" cy="371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30520" y="3016080"/>
                    <a:ext cx="7048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73040" y="4524480"/>
            <a:ext cx="1898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606760" y="4516560"/>
          <a:ext cx="112212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06760" y="4516560"/>
                    <a:ext cx="11221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502920" y="5003640"/>
            <a:ext cx="2445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lve eqns.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2800" y="730080"/>
            <a:ext cx="8191440" cy="2068200"/>
            <a:chOff x="442800" y="730080"/>
            <a:chExt cx="8191440" cy="2068200"/>
          </a:xfrm>
        </p:grpSpPr>
        <p:sp>
          <p:nvSpPr>
            <p:cNvPr id="282" name=""/>
            <p:cNvSpPr/>
            <p:nvPr/>
          </p:nvSpPr>
          <p:spPr>
            <a:xfrm>
              <a:off x="442800" y="730080"/>
              <a:ext cx="819144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ircle P has equation                                               Circle Q has centre (–2, –1) and radius 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)  i)   Show that the radius of circle P is 4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i)  Hence show that circles P and Q touch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b)  Find the equation of the tangent to circle Q at the point (–4, 1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)  The tangent in (b) intersects circle P in two points. Find the x co-ordinates of the points o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ntersection, expressing your answers in the fo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2425680" y="801720"/>
            <a:ext cx="2340000" cy="344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25680" y="801720"/>
                      <a:ext cx="234000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5138640" y="2401920"/>
            <a:ext cx="87336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38640" y="2401920"/>
                      <a:ext cx="87336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7" name=""/>
          <p:cNvSpPr/>
          <p:nvPr/>
        </p:nvSpPr>
        <p:spPr>
          <a:xfrm>
            <a:off x="3657600" y="3005280"/>
            <a:ext cx="2081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radius of circle :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918040" y="2971800"/>
          <a:ext cx="2679840" cy="41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918040" y="2971800"/>
                    <a:ext cx="26798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68000" y="3519360"/>
            <a:ext cx="2715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stance between cen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403440" y="3494160"/>
          <a:ext cx="1362240" cy="417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03440" y="3494160"/>
                    <a:ext cx="13622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5033520" y="3532320"/>
            <a:ext cx="1073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du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81920" y="35272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= sum of radii, so circles to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865680" y="4025880"/>
          <a:ext cx="844560" cy="325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65680" y="4025880"/>
                    <a:ext cx="8445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5032440" y="4006800"/>
            <a:ext cx="2097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tangent at Q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429680" y="4013280"/>
          <a:ext cx="657000" cy="325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29680" y="4013280"/>
                    <a:ext cx="6570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3027240" y="4956120"/>
          <a:ext cx="2246400" cy="662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027240" y="4956120"/>
                    <a:ext cx="2246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543640" y="4951440"/>
            <a:ext cx="605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l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305400" y="4921200"/>
          <a:ext cx="963720" cy="417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05400" y="4921200"/>
                    <a:ext cx="963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0:07Z</dcterms:modified>
  <cp:revision>134</cp:revision>
  <dc:subject/>
  <dc:title>PowerPoint Presentation</dc:title>
</cp:coreProperties>
</file>